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6C6-2EF1-4BD8-849B-1E7C8326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ED0-55DE-4534-9EB4-06DF368B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399AB-C9D8-4B83-A8AB-A13F2182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C78F8-4565-4421-9AC3-42ECC360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C455C-AAAA-4E77-BAEC-D75D4F24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D4819-C617-4A74-A061-CF704E47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E4847-FE1F-480C-A553-E38B3B84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58D90-8CA2-42A9-814F-E854074B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F84E8-56BE-4562-94C9-426907AF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E2497-8941-4C5C-B7B2-1864C85C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B1E2E-74C5-44D0-BAB3-F3648816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0853A-5EF6-411B-8A01-9B6C46CA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BCF-1643-4F14-A17B-B3B0B553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14CE4-F2A4-47F4-B0BA-74A10F8A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6B273-A830-4717-BA14-E11A37E4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69B6A-B8F7-4E9C-B498-F3028620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D73B6-7A3A-46ED-83E4-9D6B8082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56BB8-39DD-4C64-A274-3FD929AC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13E9C-6636-43FB-AD45-F63A92B6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EB07B-56A0-4E9D-BA96-758F591C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65B73-3698-499F-9FCA-959F0A91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6EAA7-1202-45D1-92BD-E3564511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6AE89-7893-42D8-94B8-AA2AA20C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D25-647C-4E7B-A976-D7E7F829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F2426-581B-4306-8264-6247C656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2E0B8-F174-40D7-B4FF-DB532BF4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EA6A2-89B2-4800-9ACB-29AF003B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F4A43-C733-4E62-A699-762DB865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21FF9-F7BF-444E-934E-D5242FEE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AB768-3682-49EF-BC5F-863806CF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C96E2-D136-47A6-98E6-7ACE63D9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7D259-389A-43DC-A528-2067B5EA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1840C-53CF-4B3A-8CAE-A32BF563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54B42-DD43-4EDB-83C1-C0801AE0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F779-F6AA-42AF-8DCE-A0328A63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E478A-B9B3-4B3F-B027-3C5E671C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3AAB1-CC85-4AEE-94AB-2A469179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E6650-7B65-4938-BBD5-55785A6E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EA9DA-22F1-422C-8E6A-0E5A4272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00D6A-4C83-480F-B710-547D8E32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B798C-59F7-47B1-AD05-0B600480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6405A-6284-4411-8363-8A50C848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DCB92-2037-4081-972A-25C7E163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44EB5-0AAE-46ED-9F14-BD79C50A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BF2B4-A945-47A3-B975-058FF55B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6BAE-B7F9-42F6-92A7-84B08F32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34D3C-52BC-4E6A-826C-1D8F73A3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0518F-8A16-4588-BF03-6399E052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4ED90-FEBB-4144-A79B-BB716435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FF60D-C605-4C38-8992-426C456A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D8CCF-62D3-4530-9F45-751D0BAB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EDCD6-FAED-4C9D-A12A-B2BE9813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EC2DD-6D1A-49A4-8BCD-F9F8FC9B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B0C3C-4AF3-4270-9A3B-892245E4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0B464-3B0D-47A2-A957-19751B9B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7EDA4-8825-4942-BC70-2DA52398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A03C-A41C-4FFA-99B5-99C7ED0F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1CCB0-0047-4A0D-BCB0-EF8DFA8D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AE869-F8E1-444C-BEBD-9BAAA1C8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F2C0F-AAEC-4863-9C89-C6D82919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D6EB8-71D2-4583-83F0-0DEFF283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9C16D-37A3-409B-B718-661B96C6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659C4-404F-42EB-8A61-3B835949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BD491-764A-4A83-BF1D-067BD5B4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94258-FF37-48C8-BDD0-719460C1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1F7ED-8F89-4305-A9BA-F00E79C9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8077E-DAE4-4C60-8625-677271E9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6FC7-7C31-4773-BF75-A57C0C67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BEAF6-8FBC-4EAE-B2DF-03429407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5E31A-854C-43D3-8BB2-DAA19370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4142D-4364-4C7A-A1EF-29DAC5E5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42199-948F-4D5C-9BF4-3CA09D78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ED141-074B-49C1-9AC2-FEB5E139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450B8-D16F-47A5-80D5-5AECEE98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FEE89-03D6-47EF-9AE6-EFD8C076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FC81E-44BD-477D-8DA9-14C4A7C9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80360-1BDE-4820-BCA1-A8F3C484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3DF43-0E6B-4043-A66A-752636BF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9DFF-B48B-46F3-9FC3-D18A10AA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1E140-687D-47B0-9B1C-4F13C27C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4AFB6E-679A-470A-A7D8-702E790A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EEEA3-DFB7-4B54-8B6E-B4591BF3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6A6B2E-CB86-4A54-9A46-2B1C10A1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2CB741-42A1-4525-AF00-EE6F3960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77D32-0877-4CB3-8BEA-DCDF2D54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CEDDE8-1F9E-475D-A491-FDA96393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5EAA7-28E7-430B-B23D-49D5422A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2F606-6D09-463B-BDF8-354CFC0B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40ED35-3F9F-4380-8D4D-F0534738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0DA4-8E2F-4B3E-9878-59A7016B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CD979-BB46-4862-A9C3-9B481BA9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66C06D-CC79-4A9B-866F-5182443A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1DE48-8013-4AEF-8471-10926A67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38EC19-30AD-4536-8EA9-03B147C5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2F3D47-3302-4598-BA11-9909C093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7E0AD6-E466-4D37-A3A7-E6D627DA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F21EC2-9511-42DF-8124-DDBEEBFF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64FFF1-BCCE-406C-AEFB-4CA6460D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3F40A8-5C68-4B64-B8E2-D0BA763F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EB414F-C78D-4EA7-AC43-CC7D1DD4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D74C-47BD-411E-BC10-5C34C98D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C0C863-9001-4262-B7C9-844D3598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84386-B870-47C9-8D3F-02C57F67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32481-2BDB-4D46-98C4-2F3655C1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F32414-4471-4396-9112-62241E6E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616921-1E40-4B90-B641-2DA6A6D3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0B16E-429A-4AD1-AE8D-B042D729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DBCA3-9CE3-4C96-87EE-A18BAA71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74FB16-F418-40E6-AB9B-CF9A9EFD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D35879-C586-4F34-8440-85192894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01491-7F27-4B94-8675-A35BF0BC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8DD-7D0A-49C6-B440-3D4A86CB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CAC3-6AE4-4DE8-8423-663DABE0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460F0B-E15F-4F3F-9B55-E2A47860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CAF9B5-5248-4704-81DA-EC179D41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78EC3A-6520-48E0-87A6-9917D6D4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83EC2E-32A1-41C0-A53A-92B58CAE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C506F4-C33F-4CDB-84B1-1BF16E39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81728-0137-488A-8A72-4164425E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064C05-4C89-421F-BF53-5EF2B269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E4E433-6A11-46DC-A5AA-BAD49E12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D88856-5979-4AAB-B1C8-72925F98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17421-051D-4577-B624-42F95319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3386-9954-48E1-A7B9-2B5A5611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B1AFF3-BDAC-4BF2-AB7F-1D7D2575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6C3569-0FF8-418C-A33A-DBD35C45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C611EA-620A-4100-B697-C0D7E409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BA01DF-D8EB-47EC-8753-A10A4FC5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325FD-96EA-48B3-B4CF-4A445057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BE2A04-B246-4AFC-AECB-D7E248D0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33E63-EC85-425C-91E3-47088C3E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CFC65D-EA27-4ECF-B9CB-CB10CE3F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6AB06A-918F-4ED2-839C-73B9B800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3D9D51-7C9C-43AC-A954-6C75E2C7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DEB1-9F64-4B35-8936-0ABAA932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4B7158-4FDA-4442-9EA2-E4940836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DFCC29-CF8B-4155-95D4-37E8A593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CC3B9E-3C11-4D8B-BE85-BB840B4E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47CE7B-ADCD-467B-A262-C14ECE96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E3217E-533A-4894-A8F4-ED6D602F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92611-498F-4D60-A454-707E8B85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D7495F-D163-4CA3-AB50-E7F651F1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41E549-8688-42FE-8F82-C623449C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E93CB6-90E2-4625-8715-91C7F1DE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52A840-D6D7-4653-B501-E38A4777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05EA-B54B-44C1-89ED-BC79CAC0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87C3C6-77F4-4F41-8457-0CAFEA79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E84388-CDFC-4B05-AF17-DC5820A9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E7E535-723C-4FBB-A258-B2D365C3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51A133-98AE-4236-B216-CF3DDBA4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CEA7E9-D4F0-4446-9BAD-602D43BC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A1D280-3FBD-413E-8AB0-E6D197B6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C75BCB-6F91-4A03-8174-99A00088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D36AC7-2983-4F30-8023-235A954B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3BCC85-7248-40F7-9C3A-B3CD7BA1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32B674-4BE4-4412-B1A6-8EFCF113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FF0A-0024-47B0-9A60-B50191F2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26BC66-7F3A-4467-9E82-42543100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506EEE-D4E4-421E-BAA9-EEAC52E1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3CFF3E-6786-4D8F-9650-02D51B76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516AA-6795-4940-BF37-094BDC7B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88659A-8B42-4603-9A8F-21A24572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55E71F-94C5-46CF-97EE-EC3E5E3A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69EE8C-855A-453E-91B4-EA5AFFE5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7CE234-F02D-4FC2-B9D5-07ED25F1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1E6559-1CC4-4A76-836F-FD253303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57E766-2282-42EF-B060-635D3C3C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1E044-86E5-40C2-8B9C-55AA51A2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FC041-A4C4-414E-9D78-C02B0E2A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6E707A-BC8D-4C45-B596-A313DFC6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832F3-7BDC-4629-8B62-35854447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3BADC-0B19-41F4-982A-9EE88045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CB3DC-32E2-480E-80E8-A582E0E6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69979-FFEF-4B65-95A4-A000D9E6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87B74-7792-45D1-AA1C-C8765521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A34-DFDC-4755-9829-3F7132FE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2C620-411A-48A8-8AE5-81D8A138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08881-8F7B-40CD-90F6-27DF0A96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B413-6D40-4A8B-AC1B-AE979EF0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EC35-D6F7-4AA0-9295-0667599C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A1818-7CC0-4042-BBE3-1B79A3FE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8151-2177-4434-9A66-A1FC3C16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95041-6B4F-4666-93DB-E07B6EC8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EC0C0-A698-4E20-BE2A-318DD43F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10216-7FC1-43CA-A636-E7B90CAC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25879-1812-4C50-8678-08AB3F64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C17-C745-4584-92A9-B0A028BB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A055F-4C41-4802-BA5E-5412151A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E375C-8F97-4A19-986E-73813A46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8507D-F61E-4382-B9B2-07ABDD1D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D07A-D9F4-4891-828B-01EE0DAA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5DEDF-2E8F-4E37-80DD-B28EEAF5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0A60B-CBB3-4AAB-88AC-E0071EF9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74255-261A-4BEC-AB3E-D8D57FC6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4C95E-BB54-4B00-A758-C13CD116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F880-AC73-4C10-80A5-C1175473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1CA66-A0DF-413D-8702-7A362201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04D-1104-425D-BB5E-27207AB7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4D3A4-97E9-4CF5-8ABA-ACA06E07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A5DDD-1A06-4E50-991A-8A53C7D1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E8882-6837-4D96-9414-3D84E8C1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20AC1-19E5-4D93-AE58-42BF3FE7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1F576-DAF5-47BB-9CD8-93C77391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0D246-981F-4FBA-92DB-CF0FC083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24E77-4D39-477A-820E-90ADE097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6AE42-4383-4537-8A5C-7A089276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AEDE0-215B-4820-9F8A-2123FCB3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6E42F-1760-483A-A021-28EA6D35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C01-A5DC-4C16-BADC-DE9CDE2F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1BFD3-69E1-4A62-8E6A-03BFBF0C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2CBA7-9ACB-437F-9E90-F831F825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84897-D860-488C-BC93-691864D0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3E239-94F5-43B5-A866-2DB3C0C7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6A2BE-AF8D-41A5-B725-D7D851D8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E327C-B011-472E-A7D9-F0354A66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9B0C7-F8E1-49D2-A00B-ED7DA658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35D0C-1ABE-4622-A88D-4B31BF53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A97C0-1A3C-434A-BBBF-2845A7BB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A2AD2-CD84-4DFE-AF68-05F260BA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6BF-6C2B-452F-A48D-77B41F2A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95EAC-43D2-45B1-B9E2-7A8B2B88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5CC30-C949-4A17-A665-76F47A2B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A82FF-7B16-426A-B8B3-C1CCF536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72F54-8ED5-4E44-A295-33A2276D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1EF72-3EB0-4214-979B-528FEBBE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C3712-984E-43CC-9478-B01B4755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51B33-4636-4133-9779-13DE1478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D3290-CAF4-4362-AA61-228DCABD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01FAF-A2F8-41A2-802B-FAF01262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1AF02-8A65-4A2C-B60E-A6D1C791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84E-3FA7-42A0-A2CF-FC258F29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D4B66-FC93-444C-9AAC-04921F52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D9F10-0A3D-4B48-B325-834A9071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5D50A-A9DC-471D-B41A-E9E898D4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2CC54-3A91-4709-B5D1-5AAEFA4A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35321-1CA7-47B2-9046-B7B0CE4C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85AA5-2DD4-4E49-B838-2AEE85DA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85387-2195-48A1-B5B1-9EEEBA6D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DDA88-D630-4997-925D-4E0CF867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C72E0-BA37-464D-93C5-3BB49AE8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20A13-E9C5-43ED-AF2A-491391D8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7F6-ED6C-40C2-BF9F-EA1756D6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EBD47-D75D-4011-97A1-FEED0C33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B1E65-51FB-4660-8D6B-4A6025F7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7F719-8BF8-4E8B-9798-3C4AF42E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E960D-0E1F-46A1-BAED-767743BE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3AFD5-52C4-4C5B-AFE2-60E43AEE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830BA-161D-4491-A9F5-DA07AE0C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3AC11-4C86-477E-9E95-E2785A4A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81852-E3CA-46AE-849D-E32B9811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8BCE0-B661-4240-9463-47AFBAD2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1C0C5-2947-4C57-969B-AE8FC2A9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B2FC-714B-4CFD-AA60-BF040E5016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2BAA-07B5-4F84-9F48-35BAB6EB6A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177A-111C-4B39-A0BF-A163C0C9D4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E22A-7BF1-441F-BB4B-5A169F77FF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A0F4-D174-44CF-B8EE-25684E8104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5F0F-594A-416C-9CAC-5386BD5F45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F665-0EFF-45CC-B30C-6FF576CE35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2E82-3077-47B0-BB26-06DE1DC802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2DE7-3B6C-4567-9088-5DB89D812C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D7CC-A0A0-4F6E-A088-A4D9922F4D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9016-A81F-46B9-9998-D9A5E2A39C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7399-6130-4A99-AD54-DD8DEE7244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84CD-CFAE-40EC-ADE8-033C3AECE3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3C8B-956A-47DA-B4BA-B7AE9027B2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6DE3-B99D-4888-B33A-EEF2C81172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BFCB-C05C-44B8-BC90-E7DD15D235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60F4-2FAA-4AE5-BC28-9DAAE1AE4D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D471-D55E-48CF-8A1A-1840BA3F1C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85F2-3ECE-4844-B04D-157008ECF4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AEB1-90E4-4320-A4EB-A53864A995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6B23-DCC0-4A08-9842-19DF5B28B5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34C1-E619-4A25-A8F1-77B95D6CAE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DBBF-EA33-468C-B4F7-8C6C2FE112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66F3-7B1D-457C-A8E8-3FDCEBB44B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5E46-3362-4755-92CF-9E9B2DA7E3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7C15-5FE3-4E4D-AB15-3A47B9F981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BCF4-794E-4D0D-A072-CE9B82C8A8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DF99-FD7B-4F53-946C-668B2C2623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63D5-3B9B-474D-BD55-B92349D083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96A3-B20B-46E0-8D95-06E4E06CC7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B779-D8FA-4092-A25A-B17FA17326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48EC-D17E-4B14-904F-8644E612EB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C6F0-A311-45F2-A3AA-832AAD98AA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1A14-EE81-4E87-9814-0377CBB645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0808-E726-4DD7-93D4-6DF639C7C0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95E6-B415-4B1F-BF9E-343F14A4F2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9C8B-8B35-4507-A7DD-594F0755ED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834A-B6A0-4223-A402-53FACDA97F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60D5-B3D8-40FE-BDF8-0F1A9FA004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1846-19CF-4033-BFB5-CE93A65AE6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871560" y="3009960"/>
            <a:ext cx="7400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9633" descr=""/>
          <p:cNvPicPr/>
          <p:nvPr/>
        </p:nvPicPr>
        <p:blipFill>
          <a:blip r:embed="rId1"/>
          <a:stretch/>
        </p:blipFill>
        <p:spPr>
          <a:xfrm>
            <a:off x="809640" y="1197000"/>
            <a:ext cx="7524720" cy="209556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69634" descr=""/>
          <p:cNvPicPr/>
          <p:nvPr/>
        </p:nvPicPr>
        <p:blipFill>
          <a:blip r:embed="rId2"/>
          <a:stretch/>
        </p:blipFill>
        <p:spPr>
          <a:xfrm>
            <a:off x="442800" y="3557520"/>
            <a:ext cx="8258400" cy="22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4500720" y="1685880"/>
            <a:ext cx="1008000" cy="4986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6804000" y="16574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3708360" y="2349360"/>
            <a:ext cx="1295280" cy="498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7596360" y="2390760"/>
            <a:ext cx="1008000" cy="4986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2325600" y="4091040"/>
            <a:ext cx="1008000" cy="498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5219640" y="404820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7711920" y="4062240"/>
            <a:ext cx="1008360" cy="4986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1173240" y="4797360"/>
            <a:ext cx="1008000" cy="4986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5205240" y="4724280"/>
            <a:ext cx="1008360" cy="4986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7697880" y="4738680"/>
            <a:ext cx="1008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6120" y="798480"/>
            <a:ext cx="8591760" cy="5438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236000" y="5084640"/>
            <a:ext cx="1008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576360" y="1357200"/>
            <a:ext cx="7991280" cy="4143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7164360" y="141300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4356000" y="2722680"/>
            <a:ext cx="936720" cy="4982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2771640" y="4148280"/>
            <a:ext cx="936720" cy="4982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3492360" y="4710240"/>
            <a:ext cx="18003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8373" descr=""/>
          <p:cNvPicPr/>
          <p:nvPr/>
        </p:nvPicPr>
        <p:blipFill>
          <a:blip r:embed="rId1"/>
          <a:stretch/>
        </p:blipFill>
        <p:spPr>
          <a:xfrm>
            <a:off x="237960" y="1100160"/>
            <a:ext cx="8668080" cy="46576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1187280" y="3198960"/>
            <a:ext cx="3529080" cy="498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3529080" cy="4986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900000" y="4508640"/>
            <a:ext cx="3529080" cy="4982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826920" y="5157720"/>
            <a:ext cx="511344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7352" descr=""/>
          <p:cNvPicPr/>
          <p:nvPr/>
        </p:nvPicPr>
        <p:blipFill>
          <a:blip r:embed="rId1"/>
          <a:stretch/>
        </p:blipFill>
        <p:spPr>
          <a:xfrm>
            <a:off x="357120" y="808200"/>
            <a:ext cx="8429760" cy="59338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4896000" cy="4986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826920" y="4869000"/>
            <a:ext cx="4896000" cy="4982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900000" y="5597640"/>
            <a:ext cx="5761080" cy="4982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826920" y="6173640"/>
            <a:ext cx="57610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6324" descr=""/>
          <p:cNvPicPr/>
          <p:nvPr/>
        </p:nvPicPr>
        <p:blipFill>
          <a:blip r:embed="rId1"/>
          <a:stretch/>
        </p:blipFill>
        <p:spPr>
          <a:xfrm>
            <a:off x="52560" y="817560"/>
            <a:ext cx="9038880" cy="54198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468360" y="3730680"/>
            <a:ext cx="6696000" cy="4986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468360" y="4379760"/>
            <a:ext cx="6696000" cy="4986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611280" y="5099040"/>
            <a:ext cx="6696000" cy="4986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611280" y="5748480"/>
            <a:ext cx="66960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223920" y="708120"/>
            <a:ext cx="8696160" cy="61056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900000" y="4249800"/>
            <a:ext cx="5327640" cy="4982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755640" y="4883040"/>
            <a:ext cx="5327640" cy="498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612720" y="5603760"/>
            <a:ext cx="5327640" cy="4986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468360" y="6251400"/>
            <a:ext cx="8280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4276" descr=""/>
          <p:cNvPicPr/>
          <p:nvPr/>
        </p:nvPicPr>
        <p:blipFill>
          <a:blip r:embed="rId1"/>
          <a:stretch/>
        </p:blipFill>
        <p:spPr>
          <a:xfrm>
            <a:off x="357120" y="1047600"/>
            <a:ext cx="8429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2231" descr=""/>
          <p:cNvPicPr/>
          <p:nvPr/>
        </p:nvPicPr>
        <p:blipFill>
          <a:blip r:embed="rId1"/>
          <a:stretch/>
        </p:blipFill>
        <p:spPr>
          <a:xfrm>
            <a:off x="1957320" y="1728720"/>
            <a:ext cx="5229360" cy="3400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835280" y="1801800"/>
            <a:ext cx="4968720" cy="4986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1763640" y="2421000"/>
            <a:ext cx="4969080" cy="4982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1835280" y="3170160"/>
            <a:ext cx="4968720" cy="498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1763640" y="3789360"/>
            <a:ext cx="4969080" cy="4986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1835280" y="4465800"/>
            <a:ext cx="612144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1:21:2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